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58A2E-2F14-4430-89F3-2BCEF324F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0803A-26CE-49FA-80A2-7A793077D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2A841-BED4-452D-B474-5129EA33E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76727-5FD4-4A62-B22B-09BE65F9E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5B3AD-91CA-423D-961C-9B4697624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571B0-8CF4-42F4-84D1-A35BE356C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29EA6-64F9-4468-958E-FB3028100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15A65-DC06-4B5F-BE80-CB2DAD6AD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8E6BD-AB8A-4CAB-B5C7-96F9157F0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E1C9D-1163-4197-B5B2-290C0AFD1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E08EF-4728-4C5B-9546-BD9FDACDA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2D2CE-B964-4216-9022-21EF50347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7CADD-DA38-41C5-8B67-A8781C7B6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A04A7-ED20-40B1-8476-472563D50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25F6A-9696-4412-BF64-69D175C98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1ADFF-04A2-42DA-A411-518EA630A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84E42-EC84-4AB7-9DE3-CE12129C0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AE3B0DB-4B1E-4C2B-9F50-31B9072B9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47259E-695D-498D-86B4-2EC56A0C3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74F473B-FC5F-4E03-8775-3F94D87AE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D451E5-E7BD-4FCF-A8AA-CEE9CD771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55C305B-D156-44D6-96F4-8A7F62A20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0865B-DEFB-4422-AAC3-B6FFEAC15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726C04C-99F3-4BA3-8A00-048741CB2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DBD27A1-BE96-469D-A357-1331E3FC9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0CEEE3-0897-41C1-A018-1733666B0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1D2616E-4BB2-4CF1-A1D8-528511678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6E0A623-253C-4229-A118-371C447E4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E4C415-1200-435A-9212-6BFC9E4E3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B70A323-E8DA-4B6E-8F65-A37FECC45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188515-39D8-4E0B-975A-0DEA3A2D8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95760B-8AEA-4780-BC07-F8E8D9038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5773E1-5D2F-4F25-B7C6-106627055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2659A-8821-436F-B9F2-A76400CD2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9B2E81-301F-4458-A08E-3087408A2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A58B0E-9533-448D-B27C-7C59318C4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BFB918-E41E-4169-985F-04F0FEFC9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0F4988-B5A6-4BEA-9131-112FC04A1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97083A-5550-4FB0-AC25-B7E1F60EA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8E50EF-95EB-4FC8-B508-71E6027A3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6D142B-AA71-4857-A853-EEDBB5228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B93A8C-9E91-4C56-8751-D8911ACF8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8E714B-0A3C-4F74-AE4E-E66ACA303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E4BE82-FF0E-43AE-8A10-2DD6E1DFE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7F6D1-52C4-441B-B8EA-3117B4A4A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A0A170-1E58-4966-B11D-475D6978D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DD598B-817A-462F-AF41-9EFCB4F9B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F9EB96-590F-493E-8B5F-AE97785C6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98F8A3-509D-4A98-996A-9631DC305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AD077E-0C39-4E95-9A73-209A396EA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98E51E-606F-4ED2-A14D-782F9742D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B0E38F-2001-4F2C-94F2-E73C67025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0D7050-A7B5-4E83-B8A5-D84DECB9B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1ECDD6-DF08-4EB4-93C1-14284EDC3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5E4DB0-1CE6-48C3-ADF3-2117B94F0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DEA1C-2FFE-4E39-8F19-546E8D012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17A097-37E8-4B13-801D-D880061C0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7F946-D329-46FD-BBAF-98E909725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A0A34-FB99-4E38-AFAB-B8A6F847F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BDC01-357C-4498-939A-563830520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6DC2A-3DFE-4A75-B854-C2AAEBD813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Times New Roman"/>
              <a:buChar char="v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Times New Roman"/>
              <a:buChar char="v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Times New Roman"/>
              <a:buChar char="v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630E8-A64A-4013-8158-1BB745760F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B10D5-CA48-4CB0-B24D-3088270508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24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PlaceHolder 1"/>
          <p:cNvSpPr>
            <a:spLocks noGrp="1"/>
          </p:cNvSpPr>
          <p:nvPr>
            <p:ph type="dt" idx="10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ftr" idx="11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sldNum" idx="12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99ACB-B806-42F9-9993-B02E7A40C95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Times New Roman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Times New Roman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Times New Roman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Times New Roman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Times New Roman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Times New Roman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174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dt" idx="13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ftr" idx="14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sldNum" idx="15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0D54B-BF02-46DF-BBBF-286DBC8BF8A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0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0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EDICINA DELLO SPORT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VISITE DI IDONEITA’ ALLA PRATICA AGONISTIC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80880" y="52574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Dr. TOMMASO CALEMMA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Asl 5 Montalbano J.co                                                                                      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Ambulatorio di Medicina dello Sport   Policor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Times New Roman"/>
              </a:rPr>
              <a:t>BOLLETTINO UFFICIALE REGIONALE DELLA BASILICATA</a:t>
            </a:r>
            <a:endParaRPr b="1" lang="en-US" sz="4000" spc="-1" strike="noStrike">
              <a:solidFill>
                <a:srgbClr val="ffffb7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8007480" cy="365760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Times New Roman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messo che l’attività fisica risulta essere un sistema di 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prevenzion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di patologie importanti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’erogazione della visita di idoneità sportiva presso strutture pubbliche 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è gratuit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per i residenti in Basilica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Times New Roman"/>
              </a:rPr>
              <a:t>APPARATO CARDIOVASCOLARE</a:t>
            </a: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1295280" y="2057400"/>
            <a:ext cx="6667560" cy="40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Times New Roman"/>
              </a:rPr>
              <a:t>APPARATO CARDIOVASCOLARE</a:t>
            </a: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8007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Times New Roman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CG riposo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Times New Roman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C ripos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Times New Roman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CG da sforz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Times New Roman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C da sforz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Times New Roman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R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Times New Roman"/>
              </a:rPr>
              <a:t>VALORI DELL’ IRI</a:t>
            </a:r>
            <a:endParaRPr b="1" lang="en-US" sz="4400" spc="-1" strike="noStrike">
              <a:solidFill>
                <a:srgbClr val="ffffb7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Times New Roman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5 a 3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ttim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3 a 40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on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1 a 54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cret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5 a 65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fficien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66 in poi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sufficien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80520" y="533160"/>
            <a:ext cx="8458200" cy="19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Times New Roman"/>
              </a:rPr>
              <a:t>Apparato respiratorio</a:t>
            </a:r>
            <a:br>
              <a:rPr sz="4400"/>
            </a:br>
            <a:br>
              <a:rPr sz="4400"/>
            </a:br>
            <a:r>
              <a:rPr b="1" lang="en-US" sz="4000" spc="-1" strike="noStrike">
                <a:solidFill>
                  <a:srgbClr val="ffffb7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b7"/>
                </a:solidFill>
                <a:latin typeface="Times New Roman"/>
              </a:rPr>
              <a:t>CAPACITA’ RESPIRATORIE</a:t>
            </a:r>
            <a:br>
              <a:rPr sz="3600"/>
            </a:br>
            <a:endParaRPr b="1" lang="en-US" sz="3600" spc="-1" strike="noStrike">
              <a:solidFill>
                <a:srgbClr val="ffffb7"/>
              </a:solidFill>
              <a:latin typeface="Times New Roman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304920" y="2971800"/>
            <a:ext cx="861048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Times New Roman"/>
              </a:rPr>
              <a:t>ASPETTATIVE DI UNA VISITA AMBULATORIALE </a:t>
            </a:r>
            <a:br>
              <a:rPr sz="4000"/>
            </a:br>
            <a:r>
              <a:rPr b="1" lang="en-US" sz="4000" spc="-1" strike="noStrike">
                <a:solidFill>
                  <a:srgbClr val="ffffb7"/>
                </a:solidFill>
                <a:latin typeface="Times New Roman"/>
              </a:rPr>
              <a:t>DI MEDICINA DELLO SPORT</a:t>
            </a:r>
            <a:endParaRPr b="1" lang="en-US" sz="4000" spc="-1" strike="noStrike">
              <a:solidFill>
                <a:srgbClr val="ffffb7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37720" y="23619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99ff66"/>
              </a:buClr>
              <a:buFont typeface="Times New Roman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cc"/>
                </a:solidFill>
                <a:latin typeface="Arial"/>
              </a:rPr>
              <a:t>Solo un certificato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80880" y="244440"/>
            <a:ext cx="846144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Times New Roman"/>
              </a:rPr>
              <a:t>Interazione presso un ambulatorio di medicina dello sport</a:t>
            </a:r>
            <a:endParaRPr b="1" lang="en-US" sz="4400" spc="-1" strike="noStrike">
              <a:solidFill>
                <a:srgbClr val="ffffb7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837720" y="2971440"/>
            <a:ext cx="8007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Times New Roman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cietà sportiv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Times New Roman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le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Times New Roman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dico sportiv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Times New Roman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enato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b7"/>
                </a:solidFill>
                <a:latin typeface="Times New Roman"/>
              </a:rPr>
              <a:t>RISPOSTE DI VALUTAZIONE FUNZIONALE </a:t>
            </a:r>
            <a:br>
              <a:rPr sz="2400"/>
            </a:br>
            <a:r>
              <a:rPr b="1" lang="en-US" sz="2400" spc="-1" strike="noStrike">
                <a:solidFill>
                  <a:srgbClr val="ffffb7"/>
                </a:solidFill>
                <a:latin typeface="Times New Roman"/>
              </a:rPr>
              <a:t>IN CORSO DI VISITA DI IDONEITA’ ALL’ATTIVITA’ SPORTIVA AGONISTICA</a:t>
            </a:r>
            <a:endParaRPr b="1" lang="en-US" sz="2400" spc="-1" strike="noStrike">
              <a:solidFill>
                <a:srgbClr val="ffffb7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120" y="2437920"/>
            <a:ext cx="8007480" cy="29718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Times New Roman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cc"/>
                </a:solidFill>
                <a:latin typeface="Arial"/>
              </a:rPr>
              <a:t>INDIVIDUAZIONE DI PATOLOGIE DELL’ATLE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Times New Roman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cc"/>
                </a:solidFill>
                <a:latin typeface="Arial"/>
              </a:rPr>
              <a:t>Prevenzione di lesioni muscolo articolar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Times New Roman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cc"/>
                </a:solidFill>
                <a:latin typeface="Arial"/>
              </a:rPr>
              <a:t>Prevenzione di condizioni di sovra-allenamen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Times New Roman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cc"/>
                </a:solidFill>
                <a:latin typeface="Arial"/>
              </a:rPr>
              <a:t>Più alto senso di gratificazione dell’allenamen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Times New Roman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cc"/>
                </a:solidFill>
                <a:latin typeface="Arial"/>
              </a:rPr>
              <a:t>Miglioramento della performance dell’atle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Times New Roman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cc"/>
                </a:solidFill>
                <a:latin typeface="Arial"/>
              </a:rPr>
              <a:t>GARANZIE MEDICO-LEGALI DELLA SOCIETA’ SPORTIV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Times New Roman"/>
              </a:rPr>
              <a:t>DECRETO MINISTERIALE 18/02/1982</a:t>
            </a:r>
            <a:endParaRPr b="1" lang="en-US" sz="4400" spc="-1" strike="noStrike">
              <a:solidFill>
                <a:srgbClr val="ffffb7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37720" y="2590560"/>
            <a:ext cx="800748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Times New Roman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rme per la tutela dell’attività sportiva agonistic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ffb7"/>
                </a:solidFill>
                <a:latin typeface="Times New Roman"/>
              </a:rPr>
              <a:t>Art. 1</a:t>
            </a:r>
            <a:endParaRPr b="1" lang="en-US" sz="4400" spc="-1" strike="noStrike">
              <a:solidFill>
                <a:srgbClr val="ffffb7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Times New Roman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i fini della tutela della salute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Times New Roman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loro che praticano attività sportiva agonistic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Times New Roman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devono sottoporsi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Times New Roman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viamente e periodicament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Times New Roman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al controllo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dell’idoneità specifica allo sport che intendono svolgere o svolgon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ffb7"/>
                </a:solidFill>
                <a:latin typeface="Times New Roman"/>
              </a:rPr>
              <a:t>Art. 2</a:t>
            </a:r>
            <a:endParaRPr b="1" lang="en-US" sz="4400" spc="-1" strike="noStrike">
              <a:solidFill>
                <a:srgbClr val="ffffb7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L’accertamento di idoneità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relativamente all’età ed al sesso, per l’accesso alle singole attività sportive agonistiche vien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determinato dai medici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…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nuto conto delle norme stabilite dall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federazioni sportive nazionali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e, per i giochi della gioventù a livello nazionale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l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Ministero della Pubblica Istruzion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1905120" y="228600"/>
            <a:ext cx="534168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461440" cy="27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ffb7"/>
                </a:solidFill>
                <a:latin typeface="Times New Roman"/>
              </a:rPr>
              <a:t>Art. 3</a:t>
            </a:r>
            <a:r>
              <a:rPr b="1" lang="it-IT" sz="4000" spc="-1" strike="noStrike">
                <a:solidFill>
                  <a:srgbClr val="ffffb7"/>
                </a:solidFill>
                <a:latin typeface="Times New Roman"/>
              </a:rPr>
              <a:t> </a:t>
            </a:r>
            <a:br>
              <a:rPr sz="4000"/>
            </a:br>
            <a:r>
              <a:rPr b="1" lang="it-IT" sz="3200" spc="-1" strike="noStrike">
                <a:solidFill>
                  <a:srgbClr val="ffffb7"/>
                </a:solidFill>
                <a:latin typeface="Times New Roman"/>
              </a:rPr>
              <a:t>Tabelle A e B del tipo di accertamenti da eseguire</a:t>
            </a:r>
            <a:br>
              <a:rPr sz="3200"/>
            </a:br>
            <a:br>
              <a:rPr sz="1200"/>
            </a:br>
            <a:r>
              <a:rPr b="1" lang="it-IT" sz="3200" spc="-1" strike="noStrike">
                <a:solidFill>
                  <a:srgbClr val="ffffb7"/>
                </a:solidFill>
                <a:latin typeface="Times New Roman"/>
              </a:rPr>
              <a:t>Eventuali altri esami specialistici e strumentali su motivato sospetto clinico</a:t>
            </a:r>
            <a:endParaRPr b="1" lang="en-US" sz="3200" spc="-1" strike="noStrike">
              <a:solidFill>
                <a:srgbClr val="ffffb7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38080" y="3580920"/>
            <a:ext cx="3927600" cy="30481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00"/>
                </a:solidFill>
                <a:latin typeface="Arial"/>
              </a:rPr>
              <a:t>Tab. A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Times New Roman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Visita Specialistic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Times New Roman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Ecg Ripos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Times New Roman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Esame Uri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5029200" y="3429000"/>
            <a:ext cx="3927600" cy="32767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cc0066"/>
                </a:solidFill>
                <a:latin typeface="Arial"/>
              </a:rPr>
              <a:t>Tab. B</a:t>
            </a:r>
            <a:r>
              <a:rPr b="1" lang="it-IT" sz="2800" spc="-1" strike="noStrike">
                <a:solidFill>
                  <a:srgbClr val="ffff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Times New Roman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Visita Specialistic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Times New Roman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Ecg Ripos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Times New Roman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Esame Uri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Times New Roman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cc0066"/>
                </a:solidFill>
                <a:latin typeface="Arial"/>
              </a:rPr>
              <a:t>Ecg da Sforz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Times New Roman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cc0066"/>
                </a:solidFill>
                <a:latin typeface="Arial"/>
              </a:rPr>
              <a:t>Spirometr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44440"/>
            <a:ext cx="838188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ffb7"/>
                </a:solidFill>
                <a:latin typeface="Times New Roman"/>
              </a:rPr>
              <a:t>Art. 4</a:t>
            </a:r>
            <a:br>
              <a:rPr sz="4000"/>
            </a:br>
            <a:br>
              <a:rPr sz="1400"/>
            </a:br>
            <a:r>
              <a:rPr b="1" lang="it-IT" sz="3200" spc="-1" strike="noStrike">
                <a:solidFill>
                  <a:srgbClr val="ffffb7"/>
                </a:solidFill>
                <a:latin typeface="Times New Roman"/>
              </a:rPr>
              <a:t>Scheda di valutazione (modello A e B)</a:t>
            </a:r>
            <a:endParaRPr b="1" lang="en-US" sz="3200" spc="-1" strike="noStrike">
              <a:solidFill>
                <a:srgbClr val="ffffb7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798480" y="1905120"/>
            <a:ext cx="3541680" cy="479880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2"/>
          <a:stretch/>
        </p:blipFill>
        <p:spPr>
          <a:xfrm>
            <a:off x="5035680" y="1905120"/>
            <a:ext cx="331632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ffb7"/>
                </a:solidFill>
                <a:latin typeface="Times New Roman"/>
              </a:rPr>
              <a:t>Art. 5</a:t>
            </a:r>
            <a:endParaRPr b="1" lang="en-US" sz="4400" spc="-1" strike="noStrike">
              <a:solidFill>
                <a:srgbClr val="ffffb7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837720" y="1523520"/>
            <a:ext cx="8007480" cy="480060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Times New Roman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i soggetti idonei viene 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rilasciato il relativo certificat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Times New Roman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 presentazione, da parte dell’interessato, del predetto certificato di idoneità 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è condizione indispensabil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per la partecipazione alle attività agonistich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Times New Roman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tto certificato deve essere 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conservato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sso la società sportiva di appartenenz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2133720" y="609480"/>
            <a:ext cx="5038560" cy="590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erpes</cp:lastModifiedBy>
  <dcterms:modified xsi:type="dcterms:W3CDTF">2006-11-13T16:47:07Z</dcterms:modified>
  <cp:revision>3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