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773-2B5C-4722-B9FF-9750D782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408-D124-4CD4-BA33-725EC0F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16C-A660-453E-B926-8CF26C35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261-FF70-459F-8110-F76D4D92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E546-6C18-461C-85FD-88953EE6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95FF-7B6A-442F-A952-DF701525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BFFB-9613-4CAF-8C8E-32974F1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0506-7C29-4113-BD27-2509D30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F15A-CF94-495E-BD77-02C43C8C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B5A0-C0C6-4015-8286-700C4589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3E96-F173-49FD-BECC-27DED552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DBE-DEC2-4AE9-BB1C-66C7134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D62-2A29-4035-9DD7-4B61AC8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F9CB-9698-42B6-A444-48DB584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97C4-0D27-4ABA-8F89-90B05411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F6AB-084E-49A4-A416-AA5C247E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F51-3DCC-4A30-B7FD-96929F43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1D9-BC0D-4579-B2B2-FF846537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EE2-31B5-4AF2-A528-6CFF97E8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367-E441-4B96-98C9-8E873B04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87A-2A22-43C0-AF0E-4C4BC60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42D-8A76-4EAD-AE68-582F169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56B-84A4-4073-BF37-34D45BD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D9C-DD9E-4A51-8061-0CD905B3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EAA-0026-4BD8-AADA-1EAB05FD10A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E5D-F1D5-4EF0-B2D4-39DF35FA7B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SPETTI TECNICI,MEDICI E TRAUMATOLOGICI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IN ATLETICA LEGGER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2637000"/>
            <a:ext cx="8147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’ASSISTENZA SANITARIA DELL’AT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r Carmine Sinno Matera 04.11.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PI DI FA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Alattacida 20-30s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Lattacida 6-7’-15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da accumulo di calore: decine di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da disidratazione: alcune o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da esaurimento di glicogeno: decine di 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endocrina:diversi gior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muscolare: dopo alcune settim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tica tendini, legamenti, articolazioni: tempi ancora più lung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TRAI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magr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achicardia,Extrasistolia,Ipotens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Variazioni dell’umore, insonnia,sudorazione notturna, crampi,fascicol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sturbi digesti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so;BMI,Parametri di adiposità (plicometria) possono fornire utili informazio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’ noto a tutti l’importanza d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so form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TTENZIONE: anche nelle migliori condizioni, la valutazione della massa corporea si può supporre che sia soggetta ad un errore tra il 2 e 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IND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vuol che tra due misurazioni una del 10% e l’altra dell’ 8% vi sia stato con certezza un calo di p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isurazione e la somma delle pliche da sola sembra presentare meno errori ed è una misurazione più riproduci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CERCHE ORGANICH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n aumento di 8 battiti a riposo rispetto ai valori stabilizzatisi con l’allenamento, un aumento della F.C. durante lo sforzo superiore a quella che produrrebbe l’aumento del lattato,la comparsa di extrasistolia,l’allungamento della curva di recupero cardiaco, una diminuzione del VO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2max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ecc. Sono tutti indici di un possibile  scadimento di for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AMETRI EMATIC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Ferritina ,Transferrina, Sideremia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possono svelare uno stato di anemia latente, prelatente o manif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CPK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&gt; a 167 a riposo, secondo altri &gt;250 possono essere indicatori di uno stato di sovraccarico( dopo 48-72 ore dal caric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zotemia &gt; di 7mMl/l indicherebbero un catabolismo proteico elev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TTATO: è un indicatore più del carico del lavoro che dello stato di fatica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413000"/>
          <a:ext cx="9144000" cy="5479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iettiv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i di control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istenza di 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 60 al 70% della migliore prest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tato &lt;3m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C130-150/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ttore di svilupp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 70 all’85% della migliore prest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tato 3-4m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C 140-1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</a:t>
                      </a:r>
                      <a:r>
                        <a:rPr b="0" lang="it-IT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max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70-8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 settore di svilupp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l’85 al 95% della migliore prestazi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tato 5-7 m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C 160-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</a:t>
                      </a:r>
                      <a:r>
                        <a:rPr b="0" lang="it-IT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max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80-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di ga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gt; 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tato&gt;7mM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C&gt;180/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</a:t>
                      </a:r>
                      <a:r>
                        <a:rPr b="0" lang="it-IT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max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&gt;90-9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IFICAZIONI ORMONAL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uzione fino al 50% delle catecolamine urinarie. Al top della forma l’eliminazione notturna dovrebbe essere cos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apporto Testoterone-Cortisolo(T/C)Tale rapporto indica se il metabolismo è orientato verso l’anabolismo (T/C alto) o il catabolismo (T/C basso) Tale rapporto cala nelle settimane di carico risale in qelle di sca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ISTEMA IMMUNITARI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assa conta linfoci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esenza di linfociti atip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assi livelli di IgA sieri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assi livelli di IgG sieri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otta risposta immuninitaria speci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uzione del rapporto CD4/CD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a che,in condizioni controllate e standardizzate ,consenta la misurazione in termini quantitativi di una qual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oneità alla pratica spor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veglianza continua dello stato di salute e degli adattamenti indotti dall’allenamen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QUISITI dei TE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ità: deve valutare effettivamente ciò che ci si propone di misur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idabilità: precisione formale delle mi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ggettività:indipendenza tra il risultato del test e chi lo mis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zazione:età,temperatura, ciclo mestruale,motivazione, riscaldamento ec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oria di SAFRI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 misura osservata ovvero il valore che risulta dai test è costituita sia da una misura vera sia da una componente d’errore  sistematico o casu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cu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sura osservata = misura vera + err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SURA VE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presenta il valore ottenuto dall’atleta ossia quello che rispecchia la sua misura reale/vera/attuale/assol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RROR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ili dipendenti dall’atl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tura non corretta di uno stru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i di registr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zo di strumenti impreci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zioni um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ratica comune di determinare il risultato attraverso del test attraverso il miglior risultato ottenuto dall’atleta in più prove non fornisce risultati attendibili e deve essere sostituita dall’introduzione della media o del risultato medio e dalla deviazione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D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e n grandezze omogenee è media aritmetica tra esse il valore ottenuto addizionando le grandezze date e dividendo  la somma ottenuta per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VIAZIONE STANDA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iù semplice misura di dispersione è il campo di variazione (range) che è definito come la differenza tra il valore massimo ed il valore minim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S=E’ la radice quadrata della varianza ovvero il calcolo del quadrato degli scarti di ogni osservazi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o periodico dell’integrità fisica e prevenzione si situazioni patologiche che possono determinare un calo delle prestazioni sportive o rendere temporaneamente inidoneo l’atl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o dell’allena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CHI COMPETE 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 soci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 di famiglia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i di medicina dello 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ena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98320" y="248040"/>
            <a:ext cx="8486280" cy="10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ITUAZIONI FISIOPATOLOGICHE DA VALUTARE CORRETTAMENT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n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odificazioni del circolo veno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seudo-anemia  e an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quilibrio idro-elettroli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olore muscolare,articolare, oss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mat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sturbi gastroenter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menor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TIC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fatica è un meccanismo di difesa di cui si serve l’organismo per avvisare il soggetto che il limite delle proprie possibilità fisiologiche è stato raggiunto. Esistono diversi livelli di fatica acuta ai quali l’organismo risponde con aggiustamenti e adattamenti diversi e tempi di recupero diver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L CARICO DI LAVORO DEVE ESSERE ALLENANT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AKOLEV-KOROBKOV-LANANI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oli troppo deboli non bastano a a provocare la reazione funzionale dell’organismo mentre quelli troppo intensi possono avere un’azione distrut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396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Sintomi di affaticamento dopo uno sforzo di differente entità (sec.Sotow e Iwanow)lieve, ottimale,limite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razione della pel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d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ecuzione dei movimen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ntrazi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sazione generale del proprio stato di salu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onibilità alla prestazi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06:36Z</dcterms:created>
  <dc:creator> </dc:creator>
  <dc:description/>
  <dc:language>en-US</dc:language>
  <cp:lastModifiedBy> </cp:lastModifiedBy>
  <dcterms:modified xsi:type="dcterms:W3CDTF">2006-11-04T14:25:59Z</dcterms:modified>
  <cp:revision>9</cp:revision>
  <dc:subject/>
  <dc:title>ASPETTI TECNICI,MEDICI E TRAUMATOLOGICI  IN ATLETICA LEGGERA</dc:title>
</cp:coreProperties>
</file>